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D257A-D6A1-421E-9558-05E6CCA84164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import </a:t>
            </a:r>
            <a:r>
              <a:rPr b="0" lang="tr-TR" sz="1000" spc="-1" strike="noStrike">
                <a:solidFill>
                  <a:srgbClr val="6a8759"/>
                </a:solidFill>
                <a:latin typeface="Calibri"/>
              </a:rPr>
              <a:t>'package:flutter/material.dart'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1000"/>
            </a:b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void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main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) {</a:t>
            </a:r>
            <a:br>
              <a:rPr sz="1000"/>
            </a:b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  runApp(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MaterialApp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1000"/>
            </a:b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    home: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MyApp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debugShowCheckedModeBanner: 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false,</a:t>
            </a: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theme: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ThemeData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primarySwatch: Colors.</a:t>
            </a:r>
            <a:r>
              <a:rPr b="0" i="1" lang="tr-TR" sz="10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1000"/>
            </a:b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1000"/>
            </a:b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MyApp 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StatefulWidget {</a:t>
            </a:r>
            <a:br>
              <a:rPr sz="1000"/>
            </a:b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0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1000"/>
            </a:br>
            <a:r>
              <a:rPr b="0" lang="tr-TR" sz="10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createState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) =&gt;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_MyAppState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1000"/>
            </a:b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1000"/>
            </a:b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State&lt;MyApp&gt; {</a:t>
            </a:r>
            <a:br>
              <a:rPr sz="1000"/>
            </a:b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0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1000"/>
            </a:br>
            <a:r>
              <a:rPr b="0" lang="tr-TR" sz="10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Widget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build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BuildContext context) {</a:t>
            </a:r>
            <a:br>
              <a:rPr sz="1000"/>
            </a:b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return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Scaffold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1000"/>
            </a:b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      appBar: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AppBar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1000"/>
            </a:b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        title: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1000" spc="-1" strike="noStrike">
                <a:solidFill>
                  <a:srgbClr val="6a8759"/>
                </a:solidFill>
                <a:latin typeface="Calibri"/>
              </a:rPr>
              <a:t>"TMYO APP"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centerTitle: 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true,</a:t>
            </a: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body: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Column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floatingActionButton: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FloatingActionButton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1000"/>
            </a:b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        onPressed: () {}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child: </a:t>
            </a:r>
            <a:r>
              <a:rPr b="0" lang="tr-TR" sz="1000" spc="-1" strike="noStrike">
                <a:solidFill>
                  <a:srgbClr val="ffc66d"/>
                </a:solidFill>
                <a:latin typeface="Calibri"/>
              </a:rPr>
              <a:t>Icon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(Icons.</a:t>
            </a:r>
            <a:r>
              <a:rPr b="0" i="1" lang="tr-TR" sz="1000" spc="-1" strike="noStrike">
                <a:solidFill>
                  <a:srgbClr val="9876aa"/>
                </a:solidFill>
                <a:latin typeface="Calibri"/>
              </a:rPr>
              <a:t>add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1000"/>
            </a:br>
            <a:r>
              <a:rPr b="0" lang="tr-TR" sz="10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1000"/>
            </a:br>
            <a:r>
              <a:rPr b="0" lang="tr-TR" sz="10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FFB6F-AF9D-4BD2-BAD4-2F3FC954E4EA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import </a:t>
            </a:r>
            <a:r>
              <a:rPr b="0" lang="tr-TR" sz="800" spc="-1" strike="noStrike">
                <a:solidFill>
                  <a:srgbClr val="6a8759"/>
                </a:solidFill>
                <a:latin typeface="Calibri"/>
              </a:rPr>
              <a:t>'package:flutter/material.dart'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800"/>
            </a:b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void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main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) {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  runApp(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MaterialApp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    home: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MyApp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debugShowCheckedModeBanner: 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false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theme: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ThemeData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primarySwatch: Colors.</a:t>
            </a:r>
            <a:r>
              <a:rPr b="0" i="1" lang="tr-TR" sz="8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800"/>
            </a:b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MyApp 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StatefulWidget {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8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800"/>
            </a:br>
            <a:r>
              <a:rPr b="0" lang="tr-TR" sz="8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createState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) =&gt;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_MyAppState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800"/>
            </a:b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State&lt;MyApp&gt; {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8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800"/>
            </a:br>
            <a:r>
              <a:rPr b="0" lang="tr-TR" sz="8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Widget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build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BuildContext context) {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return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Scaffold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      appBar: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AppBar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        title: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800" spc="-1" strike="noStrike">
                <a:solidFill>
                  <a:srgbClr val="6a8759"/>
                </a:solidFill>
                <a:latin typeface="Calibri"/>
              </a:rPr>
              <a:t>"TMYO APP"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centerTitle: 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true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body: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Column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floatingActionButton: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FloatingActionButton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        splashColor: Colors.</a:t>
            </a:r>
            <a:r>
              <a:rPr b="0" i="1" lang="tr-TR" sz="800" spc="-1" strike="noStrike">
                <a:solidFill>
                  <a:srgbClr val="9876aa"/>
                </a:solidFill>
                <a:latin typeface="Calibri"/>
              </a:rPr>
              <a:t>black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backgroundColor: Colors.</a:t>
            </a:r>
            <a:r>
              <a:rPr b="0" i="1" lang="tr-TR" sz="8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onPressed: (){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          debugPrint(</a:t>
            </a:r>
            <a:r>
              <a:rPr b="0" lang="tr-TR" sz="800" spc="-1" strike="noStrike">
                <a:solidFill>
                  <a:srgbClr val="6a8759"/>
                </a:solidFill>
                <a:latin typeface="Calibri"/>
              </a:rPr>
              <a:t>"Butona tıklandı"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tooltip: </a:t>
            </a:r>
            <a:r>
              <a:rPr b="0" lang="tr-TR" sz="800" spc="-1" strike="noStrike">
                <a:solidFill>
                  <a:srgbClr val="6a8759"/>
                </a:solidFill>
                <a:latin typeface="Calibri"/>
              </a:rPr>
              <a:t>'Artım'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child: </a:t>
            </a:r>
            <a:r>
              <a:rPr b="0" lang="tr-TR" sz="800" spc="-1" strike="noStrike">
                <a:solidFill>
                  <a:srgbClr val="ffc66d"/>
                </a:solidFill>
                <a:latin typeface="Calibri"/>
              </a:rPr>
              <a:t>Icon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(Icons.</a:t>
            </a:r>
            <a:r>
              <a:rPr b="0" i="1" lang="tr-TR" sz="800" spc="-1" strike="noStrike">
                <a:solidFill>
                  <a:srgbClr val="9876aa"/>
                </a:solidFill>
                <a:latin typeface="Calibri"/>
              </a:rPr>
              <a:t>add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800"/>
            </a:br>
            <a:r>
              <a:rPr b="0" lang="tr-TR" sz="8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800"/>
            </a:br>
            <a:r>
              <a:rPr b="0" lang="tr-TR" sz="8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4B56C-8661-425A-ABFA-90F1ABAA1F50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import 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'package:flutter/material.dart'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void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main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) {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runApp(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MaterialApp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home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MyApp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debugShowCheckedModeBanner: 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false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theme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ThemeData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primarySwatch: Colors.</a:t>
            </a:r>
            <a:r>
              <a:rPr b="0" i="1" lang="tr-TR" sz="6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600"/>
            </a:b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MyApp 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StatefulWidget {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600"/>
            </a:br>
            <a:r>
              <a:rPr b="0" lang="tr-TR" sz="6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createState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) =&gt;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_MyAppState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600"/>
            </a:b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State&lt;MyApp&gt; {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600"/>
            </a:br>
            <a:r>
              <a:rPr b="0" lang="tr-TR" sz="6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Widget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build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BuildContext context) {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return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Scaffold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appBar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AppBar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title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"TMYO APP"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centerTitle: 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true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body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Center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  child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IconButton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icon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Icon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  Icons.</a:t>
            </a:r>
            <a:r>
              <a:rPr b="0" i="1" lang="tr-TR" sz="600" spc="-1" strike="noStrike">
                <a:solidFill>
                  <a:srgbClr val="9876aa"/>
                </a:solidFill>
                <a:latin typeface="Calibri"/>
              </a:rPr>
              <a:t>play_arrow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size: </a:t>
            </a:r>
            <a:r>
              <a:rPr b="0" lang="tr-TR" sz="600" spc="-1" strike="noStrike">
                <a:solidFill>
                  <a:srgbClr val="6897bb"/>
                </a:solidFill>
                <a:latin typeface="Calibri"/>
              </a:rPr>
              <a:t>50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color: Colors.</a:t>
            </a:r>
            <a:r>
              <a:rPr b="0" i="1" lang="tr-TR" sz="600" spc="-1" strike="noStrike">
                <a:solidFill>
                  <a:srgbClr val="9876aa"/>
                </a:solidFill>
                <a:latin typeface="Calibri"/>
              </a:rPr>
              <a:t>pinkAccent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onPressed: () {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  debugPrint(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"Butona tıklandı"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splashColor: Colors.</a:t>
            </a:r>
            <a:r>
              <a:rPr b="0" i="1" lang="tr-TR" sz="600" spc="-1" strike="noStrike">
                <a:solidFill>
                  <a:srgbClr val="9876aa"/>
                </a:solidFill>
                <a:latin typeface="Calibri"/>
              </a:rPr>
              <a:t>blueAccent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iconSize: </a:t>
            </a:r>
            <a:r>
              <a:rPr b="0" lang="tr-TR" sz="600" spc="-1" strike="noStrike">
                <a:solidFill>
                  <a:srgbClr val="6897bb"/>
                </a:solidFill>
                <a:latin typeface="Calibri"/>
              </a:rPr>
              <a:t>50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floatingActionButton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FloatingActionButton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splashColor: Colors.</a:t>
            </a:r>
            <a:r>
              <a:rPr b="0" i="1" lang="tr-TR" sz="600" spc="-1" strike="noStrike">
                <a:solidFill>
                  <a:srgbClr val="9876aa"/>
                </a:solidFill>
                <a:latin typeface="Calibri"/>
              </a:rPr>
              <a:t>black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backgroundColor: Colors.</a:t>
            </a:r>
            <a:r>
              <a:rPr b="0" i="1" lang="tr-TR" sz="6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onPressed: () {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            debugPrint(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"Butona tıklandı"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shape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RoundedRectangleBorder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borderRadius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BorderRadius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circular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600" spc="-1" strike="noStrike">
                <a:solidFill>
                  <a:srgbClr val="6897bb"/>
                </a:solidFill>
                <a:latin typeface="Calibri"/>
              </a:rPr>
              <a:t>5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tooltip: </a:t>
            </a:r>
            <a:r>
              <a:rPr b="0" lang="tr-TR" sz="600" spc="-1" strike="noStrike">
                <a:solidFill>
                  <a:srgbClr val="6a8759"/>
                </a:solidFill>
                <a:latin typeface="Calibri"/>
              </a:rPr>
              <a:t>'Tikla'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child: </a:t>
            </a:r>
            <a:r>
              <a:rPr b="0" lang="tr-TR" sz="600" spc="-1" strike="noStrike">
                <a:solidFill>
                  <a:srgbClr val="ffc66d"/>
                </a:solidFill>
                <a:latin typeface="Calibri"/>
              </a:rPr>
              <a:t>Icon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(Icons.</a:t>
            </a:r>
            <a:r>
              <a:rPr b="0" i="1" lang="tr-TR" sz="600" spc="-1" strike="noStrike">
                <a:solidFill>
                  <a:srgbClr val="9876aa"/>
                </a:solidFill>
                <a:latin typeface="Calibri"/>
              </a:rPr>
              <a:t>home_outlined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600"/>
            </a:br>
            <a:r>
              <a:rPr b="0" lang="tr-TR" sz="6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600"/>
            </a:br>
            <a:r>
              <a:rPr b="0" lang="tr-TR" sz="6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279CD-D2E9-40CA-9E90-9FAFB141C0D4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import </a:t>
            </a:r>
            <a:r>
              <a:rPr b="0" lang="tr-TR" sz="700" spc="-1" strike="noStrike">
                <a:solidFill>
                  <a:srgbClr val="6a8759"/>
                </a:solidFill>
                <a:latin typeface="Calibri"/>
              </a:rPr>
              <a:t>'package:flutter/material.dart'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700"/>
            </a:b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void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main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) {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runApp(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MaterialApp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  home: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MyApp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debugShowCheckedModeBanner: 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false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theme: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ThemeData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primarySwatch: Colors.</a:t>
            </a:r>
            <a:r>
              <a:rPr b="0" i="1" lang="tr-TR" sz="7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700"/>
            </a:b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MyApp 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StatefulWidget {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7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700"/>
            </a:br>
            <a:r>
              <a:rPr b="0" lang="tr-TR" sz="7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createState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) =&gt;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_MyAppState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700"/>
            </a:b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State&lt;MyApp&gt; {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7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700"/>
            </a:br>
            <a:r>
              <a:rPr b="0" lang="tr-TR" sz="7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Widget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build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BuildContext context) {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return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Scaffold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      appBar: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AppBar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        title: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700" spc="-1" strike="noStrike">
                <a:solidFill>
                  <a:srgbClr val="6a8759"/>
                </a:solidFill>
                <a:latin typeface="Calibri"/>
              </a:rPr>
              <a:t>"TMYO APP"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centerTitle: 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true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body: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Center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          child: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FlatButton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        onPressed: () {}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child: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Icon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          Icons.</a:t>
            </a:r>
            <a:r>
              <a:rPr b="0" i="1" lang="tr-TR" sz="700" spc="-1" strike="noStrike">
                <a:solidFill>
                  <a:srgbClr val="9876aa"/>
                </a:solidFill>
                <a:latin typeface="Calibri"/>
              </a:rPr>
              <a:t>home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size: </a:t>
            </a:r>
            <a:r>
              <a:rPr b="0" lang="tr-TR" sz="700" spc="-1" strike="noStrike">
                <a:solidFill>
                  <a:srgbClr val="6897bb"/>
                </a:solidFill>
                <a:latin typeface="Calibri"/>
              </a:rPr>
              <a:t>50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floatingActionButton: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FloatingActionButton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        splashColor: Colors.</a:t>
            </a:r>
            <a:r>
              <a:rPr b="0" i="1" lang="tr-TR" sz="700" spc="-1" strike="noStrike">
                <a:solidFill>
                  <a:srgbClr val="9876aa"/>
                </a:solidFill>
                <a:latin typeface="Calibri"/>
              </a:rPr>
              <a:t>black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backgroundColor: Colors.</a:t>
            </a:r>
            <a:r>
              <a:rPr b="0" i="1" lang="tr-TR" sz="7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onPressed: () {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            debugPrint(</a:t>
            </a:r>
            <a:r>
              <a:rPr b="0" lang="tr-TR" sz="700" spc="-1" strike="noStrike">
                <a:solidFill>
                  <a:srgbClr val="6a8759"/>
                </a:solidFill>
                <a:latin typeface="Calibri"/>
              </a:rPr>
              <a:t>"Butona tıklandı"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shape: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RoundedRectangleBorder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borderRadius: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BorderRadius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circular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tr-TR" sz="700" spc="-1" strike="noStrike">
                <a:solidFill>
                  <a:srgbClr val="6897bb"/>
                </a:solidFill>
                <a:latin typeface="Calibri"/>
              </a:rPr>
              <a:t>5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tooltip: </a:t>
            </a:r>
            <a:r>
              <a:rPr b="0" lang="tr-TR" sz="700" spc="-1" strike="noStrike">
                <a:solidFill>
                  <a:srgbClr val="6a8759"/>
                </a:solidFill>
                <a:latin typeface="Calibri"/>
              </a:rPr>
              <a:t>'Tikla'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child: </a:t>
            </a:r>
            <a:r>
              <a:rPr b="0" lang="tr-TR" sz="700" spc="-1" strike="noStrike">
                <a:solidFill>
                  <a:srgbClr val="ffc66d"/>
                </a:solidFill>
                <a:latin typeface="Calibri"/>
              </a:rPr>
              <a:t>Icon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(Icons.</a:t>
            </a:r>
            <a:r>
              <a:rPr b="0" i="1" lang="tr-TR" sz="700" spc="-1" strike="noStrike">
                <a:solidFill>
                  <a:srgbClr val="9876aa"/>
                </a:solidFill>
                <a:latin typeface="Calibri"/>
              </a:rPr>
              <a:t>home_outlined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700"/>
            </a:br>
            <a:r>
              <a:rPr b="0" lang="tr-TR" sz="7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700"/>
            </a:br>
            <a:r>
              <a:rPr b="0" lang="tr-TR" sz="7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459B3-7EBA-4FE5-A130-452093ED7448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9F1-469A-41A4-82FF-C63FD59B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DCC-6FD0-4F71-B671-8FA6C6A7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03D-0067-4938-951B-F3F2A51E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B24-0C18-4F09-A840-65FB7BD0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4B3-161B-4930-9F6E-E2542CA5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4E6-5A24-4EB0-B27E-E9D164B5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129-46E1-4F2F-B4E7-DD2F90BE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050-CB72-42E9-A9DB-70232780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CF3-FB8F-49A8-B515-BB6BA4E0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59BA-5893-49A8-B7CF-76CC2B37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17B-931B-4AA9-B8E1-4BCFD149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A33-C448-4D61-A097-A2D39FE8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8242E-AEEF-4490-A4C5-937EA14C557F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Group 17"/>
          <p:cNvGrpSpPr/>
          <p:nvPr/>
        </p:nvGrpSpPr>
        <p:grpSpPr>
          <a:xfrm>
            <a:off x="61560" y="-304920"/>
            <a:ext cx="3214440" cy="3279600"/>
            <a:chOff x="61560" y="-304920"/>
            <a:chExt cx="3214440" cy="3279600"/>
          </a:xfrm>
        </p:grpSpPr>
        <p:sp>
          <p:nvSpPr>
            <p:cNvPr id="6" name="AutoShape 15"/>
            <p:cNvSpPr/>
            <p:nvPr/>
          </p:nvSpPr>
          <p:spPr>
            <a:xfrm rot="10800000">
              <a:off x="61560" y="-152280"/>
              <a:ext cx="271260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AutoShape 16"/>
            <p:cNvSpPr/>
            <p:nvPr/>
          </p:nvSpPr>
          <p:spPr>
            <a:xfrm rot="10800000">
              <a:off x="217800" y="-304920"/>
              <a:ext cx="305820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Group 13"/>
          <p:cNvGrpSpPr/>
          <p:nvPr/>
        </p:nvGrpSpPr>
        <p:grpSpPr>
          <a:xfrm>
            <a:off x="-2774880" y="-282600"/>
            <a:ext cx="3671640" cy="3097080"/>
            <a:chOff x="-2774880" y="-282600"/>
            <a:chExt cx="3671640" cy="3097080"/>
          </a:xfrm>
        </p:grpSpPr>
        <p:sp>
          <p:nvSpPr>
            <p:cNvPr id="9" name="AutoShape 11"/>
            <p:cNvSpPr/>
            <p:nvPr/>
          </p:nvSpPr>
          <p:spPr>
            <a:xfrm>
              <a:off x="-2220480" y="-136440"/>
              <a:ext cx="311724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>
              <a:off x="-2774880" y="-282600"/>
              <a:ext cx="351432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2"/>
          <p:cNvSpPr/>
          <p:nvPr/>
        </p:nvSpPr>
        <p:spPr>
          <a:xfrm>
            <a:off x="1187280" y="2798640"/>
            <a:ext cx="1025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Arial"/>
                <a:ea typeface="Arial"/>
              </a:rPr>
              <a:t>Flutter ile </a:t>
            </a:r>
            <a:r>
              <a:rPr b="1" lang="tr-TR" sz="4400" spc="-1" strike="noStrike">
                <a:solidFill>
                  <a:srgbClr val="04599c"/>
                </a:solidFill>
                <a:latin typeface="Arial"/>
                <a:ea typeface="Arial"/>
              </a:rPr>
              <a:t>Mobil Uygulama Geliştir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2208240" y="38354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4599c"/>
                </a:solidFill>
                <a:latin typeface="Arial"/>
                <a:ea typeface="Arial"/>
              </a:rPr>
              <a:t>2</a:t>
            </a:r>
            <a:r>
              <a:rPr b="1" lang="tr-TR" sz="1800" spc="-1" strike="noStrike">
                <a:solidFill>
                  <a:srgbClr val="04599c"/>
                </a:solidFill>
                <a:latin typeface="Arial"/>
                <a:ea typeface="Arial"/>
              </a:rPr>
              <a:t>. Bölü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Metin Yer Tutucusu 2"/>
          <p:cNvSpPr/>
          <p:nvPr/>
        </p:nvSpPr>
        <p:spPr>
          <a:xfrm>
            <a:off x="3298680" y="4921200"/>
            <a:ext cx="5594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599c"/>
                </a:solidFill>
                <a:latin typeface="Calibri"/>
              </a:rPr>
              <a:t>Dr. Sevdanur GEN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599c"/>
                </a:solidFill>
                <a:latin typeface="Calibri"/>
              </a:rPr>
              <a:t>https://github.com/SevdanurGE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Resim 8" descr=""/>
          <p:cNvPicPr/>
          <p:nvPr/>
        </p:nvPicPr>
        <p:blipFill>
          <a:blip r:embed="rId1"/>
          <a:stretch/>
        </p:blipFill>
        <p:spPr>
          <a:xfrm>
            <a:off x="387360" y="3662280"/>
            <a:ext cx="3805200" cy="316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Execute Only Dart Code After Installing Flutter | by Jean Luc Kabulu |  Flutter Community | Medium"/>
          <p:cNvPicPr/>
          <p:nvPr/>
        </p:nvPicPr>
        <p:blipFill>
          <a:blip r:embed="rId2"/>
          <a:stretch/>
        </p:blipFill>
        <p:spPr>
          <a:xfrm>
            <a:off x="3559320" y="384120"/>
            <a:ext cx="5506920" cy="208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Architecht"/>
          <p:cNvPicPr/>
          <p:nvPr/>
        </p:nvPicPr>
        <p:blipFill>
          <a:blip r:embed="rId3"/>
          <a:stretch/>
        </p:blipFill>
        <p:spPr>
          <a:xfrm>
            <a:off x="8404200" y="4776840"/>
            <a:ext cx="3753000" cy="138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64680"/>
            <a:ext cx="104392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Ajan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268280"/>
            <a:ext cx="1043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599c"/>
                </a:solidFill>
                <a:latin typeface="Calibri"/>
              </a:rPr>
              <a:t>Flutter Button Çeşit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Floating Action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Raised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Icon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Flat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Google launches Dart 2.5 with intelligent code completion, Flutter 1.9 with  iOS 13 and macOS Catalina support | VentureBeat"/>
          <p:cNvPicPr/>
          <p:nvPr/>
        </p:nvPicPr>
        <p:blipFill>
          <a:blip r:embed="rId1"/>
          <a:stretch/>
        </p:blipFill>
        <p:spPr>
          <a:xfrm>
            <a:off x="7799400" y="1268280"/>
            <a:ext cx="3554280" cy="177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Floating Action Butt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7720" y="1353600"/>
            <a:ext cx="396252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Scaffold’da body dışarısında kullanılırsa, isimlendirmesi küçük harfle başlar ve konumu otomatik olarak ekranın sağ alt köşesidi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Eğer body’nin içerisinde kullanılırsa, konumlandırmayı ekranın herhangi bir yerinde yapabiliriz ve büyük harfle isimlendirebiliriz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Butonların hepsi tek bir widget alabildiği için child kullanır. İçlerine istediğimiz herhangi bir widget’ı ekleyebiliriz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66" name="Resim 2" descr=""/>
          <p:cNvPicPr/>
          <p:nvPr/>
        </p:nvPicPr>
        <p:blipFill>
          <a:blip r:embed="rId2"/>
          <a:stretch/>
        </p:blipFill>
        <p:spPr>
          <a:xfrm>
            <a:off x="4896000" y="1515960"/>
            <a:ext cx="7173720" cy="414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Floating Action Butt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353600"/>
            <a:ext cx="10515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0" name="Resim 4" descr=""/>
          <p:cNvPicPr/>
          <p:nvPr/>
        </p:nvPicPr>
        <p:blipFill>
          <a:blip r:embed="rId2"/>
          <a:stretch/>
        </p:blipFill>
        <p:spPr>
          <a:xfrm>
            <a:off x="1430280" y="1125360"/>
            <a:ext cx="9331560" cy="5583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Raised Butt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3880" y="1353600"/>
            <a:ext cx="37432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ault olarak gri renkli ve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dikdörtgen şeklinde bir butondur. Diğer butonlarla aynı özelliklere sahiptir. Sadece, tıklama özelliği vermeden rengini değiştiremediğimizi belirtmek isterim. Eğer onPress() methodunu yazmazsak, ne kadar renk verirsek verelim bunu göremeyi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4" name="Resim 2" descr=""/>
          <p:cNvPicPr/>
          <p:nvPr/>
        </p:nvPicPr>
        <p:blipFill>
          <a:blip r:embed="rId2"/>
          <a:stretch/>
        </p:blipFill>
        <p:spPr>
          <a:xfrm>
            <a:off x="4440240" y="1628640"/>
            <a:ext cx="7678800" cy="4581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Icon Butt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353600"/>
            <a:ext cx="10515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konla buton oluşturulabilecek bir widget’tır. Bu butonda daha çok icon ayarlarıyla değişik yapabiliyoruz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8" name="Resim 3" descr=""/>
          <p:cNvPicPr/>
          <p:nvPr/>
        </p:nvPicPr>
        <p:blipFill>
          <a:blip r:embed="rId2"/>
          <a:stretch/>
        </p:blipFill>
        <p:spPr>
          <a:xfrm>
            <a:off x="2220840" y="2133720"/>
            <a:ext cx="7750080" cy="46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Flat Butt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353600"/>
            <a:ext cx="10515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Flat butonlar içerlerine alacakları widget’a göre şekil almaktadırlar. Diğer buton türleriyle aynı özelliklere sahiptir. Sadece arka planı default olarak renksizd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82" name="Resim 2" descr=""/>
          <p:cNvPicPr/>
          <p:nvPr/>
        </p:nvPicPr>
        <p:blipFill>
          <a:blip r:embed="rId2"/>
          <a:stretch/>
        </p:blipFill>
        <p:spPr>
          <a:xfrm>
            <a:off x="2063880" y="2492280"/>
            <a:ext cx="8064360" cy="423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sim 4" descr=""/>
          <p:cNvPicPr/>
          <p:nvPr/>
        </p:nvPicPr>
        <p:blipFill>
          <a:blip r:embed="rId1"/>
          <a:stretch/>
        </p:blipFill>
        <p:spPr>
          <a:xfrm>
            <a:off x="411120" y="1844640"/>
            <a:ext cx="1135368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20:06:39Z</dcterms:created>
  <dc:creator>Koray</dc:creator>
  <dc:description/>
  <dc:language>en-US</dc:language>
  <cp:lastModifiedBy>Nano</cp:lastModifiedBy>
  <dcterms:modified xsi:type="dcterms:W3CDTF">2022-04-09T05:44:01Z</dcterms:modified>
  <cp:revision>2369</cp:revision>
  <dc:subject/>
  <dc:title>T.C SÜLEYMAN DEMİREL ÜNİVERSİTESİ TEKNİK EĞİTİM FAKÜLTESİ  MAKİNE EĞİTİMİ   YÜKSEK LİSANS  BİLİMSEL ARAŞTIRMA VE YAZMA   ARAŞTIRMA TEKNİKLERİ VE RAPOR YAZMA  Prof.Dr. Rauf ARIKAN  HAZIRLAYAN; Koray ÖZSOY  DANIŞMAN; DOÇ.DR.ABDULLAH ÖZSOY  ISPARTA 2005</dc:title>
</cp:coreProperties>
</file>